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D37-1133-48CC-80F3-31DA6001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9F6-4FA2-4B2E-9D61-31456F38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CA6-8E01-4F62-B757-5084506A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D1F-2745-4ECB-89F0-62E8EB8A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B11-BCB4-41ED-B95B-C5183BB9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20F-60F9-454F-8431-CCA28292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15E-946D-4210-ABE7-8E1862C9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503-EAD5-449F-87EA-39DFF1D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21D-B104-4556-872C-254EC96C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3E3-F63A-4256-B279-9E8911DD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D2D-047D-4DEE-B648-A456AC2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C34-0358-4F6D-A9EF-797F7E34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CF4F-7E06-4554-B622-FE452D855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use case and create a collaborative group to build a POC that demonstrates the secondary use of EMR data for patient recruitment for 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use case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mezi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el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: 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o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jay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yotishma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e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: Qualified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Allen/VA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ie – share with Lill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: Product uses machin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: Good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ian: Good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nne 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patients may not be available in the E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ness of Inclusion/Exclus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incorporate the har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ther aspect of EMR shipping to th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Database and a funder of clinical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into EMR system…. Need for mapp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quired for regulatory agencie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with Machine Learnining Soci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rater reli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,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pul: Will try to get som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: choose criteria to reduce the type of anonymyz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develop specific criteria and data requirements spread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nonymy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ould come from at least two sources if not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rge Allen – college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–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nen Fox: Hopefully at leas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yotishman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Marshall: 1 student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anne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ron: Get 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el: 2 students or 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chel: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an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c: U Cincinnati – Bruce Aronow’s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t Sheth’s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zi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pul: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ie: ! Stu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: 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us: something more con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rian – Rule bases applications … need to 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on the next Tel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: Federally mandate barrier… Clinicians cannot refer patients for research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earcher can find cohort and go to the clin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1:50:45Z</dcterms:created>
  <dc:creator>Partners Information Systems</dc:creator>
  <dc:description/>
  <dc:language>en-US</dc:language>
  <cp:lastModifiedBy>Partners Information Systems</cp:lastModifiedBy>
  <dcterms:modified xsi:type="dcterms:W3CDTF">2007-11-08T23:01:56Z</dcterms:modified>
  <cp:revision>2</cp:revision>
  <dc:subject/>
  <dc:title>Brainstorming</dc:title>
</cp:coreProperties>
</file>